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722-3199-4EB8-AE85-D1E8FF2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9D2-EC16-462B-AE6D-9D82CC4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2D1-34DB-4214-9F0B-3F705FEB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692-7551-4E15-A977-36D857D2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8FE-DF14-4F14-93D7-39F25A68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7A7-C143-472F-AA8B-020EC8E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E9F-5459-42FF-8CED-0C3DBD9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4D3-28CB-425E-A57C-EBE2FDC1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5B1-4CB6-47CC-A7AE-18998B19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F4F-036E-47C7-B865-ADBCFFD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323-E774-4F9B-9D89-29037A7D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EEB-E575-4103-B5DF-DF8FBAF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11DE-E90B-4719-BE71-CA72A074F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610" r="0" b="34109"/>
          <a:stretch/>
        </p:blipFill>
        <p:spPr>
          <a:xfrm>
            <a:off x="1143000" y="114300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76212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447920"/>
            <a:ext cx="678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2388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191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62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10666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09:24Z</dcterms:modified>
  <cp:revision>45</cp:revision>
  <dc:subject/>
  <dc:title>PowerPoint Presentation</dc:title>
</cp:coreProperties>
</file>